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66C3-2E39-43C5-85E5-3DDDA86A6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42E1-2CD3-4D8C-8D68-FD7CA6CE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5C32-A16C-4339-9082-F7CE45B3B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10EE-4667-4002-8468-78D090BDB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7704-B06E-4960-874D-2C143E27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010F-A7BA-4A76-83B6-1FB341AA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F4F9-1223-4C44-88E4-DE5A8FFC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781A-FE40-4BD2-8869-331577D7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3C65-48BE-4EFF-B89F-CF47C9B9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EA2A-9BC8-4B15-871E-2B82909B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8AD5-DB51-4544-B472-6C6A9B0B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CE67-2617-4C14-A23F-F2AD95DA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1280-1EFA-4878-A8FD-D108D1151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9:12:52Z</dcterms:created>
  <dc:creator>jweiss</dc:creator>
  <dc:description/>
  <dc:language>en-US</dc:language>
  <cp:lastModifiedBy>jweiss</cp:lastModifiedBy>
  <dcterms:modified xsi:type="dcterms:W3CDTF">2008-10-24T19:12:57Z</dcterms:modified>
  <cp:revision>1</cp:revision>
  <dc:subject/>
  <dc:title>blah</dc:title>
</cp:coreProperties>
</file>